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891-74C4-456A-AB00-30A1F753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11F-B95C-44C0-9A74-9E5624D8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2D8-8C58-4D44-9ED2-60056541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F47-19E0-4A7A-901D-3065B492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54C6-23A1-446F-A525-59457899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236F-433D-4958-B8C8-00A3BBD0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4177-003C-4E51-8B2A-2641DFB4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A93D-1BA2-4A76-95B9-3D81CDDA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B6D7-140F-44CE-8E86-8A44A629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3120-1ECD-4A33-BA65-FEF9E063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F759-1569-4B03-AB55-84D75376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535A-8D7B-4C08-926E-548C14C1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23EA-5343-483D-82A3-6F7493BD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A2DD-74FD-4D8D-82D1-4F0C791D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DB4F-B0ED-4226-90CF-220D71C9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BB95-4046-4BC3-81DD-6C87B7BD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685F-9D83-4C78-8D46-5F683592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7C2-77D8-4944-BEE6-A9B5570B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081-5E38-49B7-9801-83CB6065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BF2-94DF-4C19-BADF-BD9B1F6D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7F8-CE5C-4F3B-A540-7DE2E919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E4F-BDEA-4DFD-A58A-CD101E39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D4C-2CFE-4B33-8577-B79A2CFC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567-B72F-465E-8C0F-2119C1BB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7EC0-A5BF-4B6A-9A33-CB69605D5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DEA0-A944-46A9-ABC5-4F07251A0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file:///tmp/home/.config/libreoffice/4/user/gallery/Embedded%20Sound%202" TargetMode="External"/><Relationship Id="rId3" Type="http://schemas.microsoft.com/office/2007/relationships/media" Target="file:///tmp/home/.config/libreoffice/4/user/gallery/Embedded%20Sound%202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video" Target="file:///tmp/home/.config/libreoffice/4/user/gallery/Embedded%20Sound%201" TargetMode="External"/><Relationship Id="rId5" Type="http://schemas.microsoft.com/office/2007/relationships/media" Target="file:///tmp/home/.config/libreoffice/4/user/gallery/Embedded%20Sound%201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26665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to treat somebody in sho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67160" y="26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4200" y="28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94720" y="460224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: Jessica Zappit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362320" y="48769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at causes shock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400" y="1523520"/>
            <a:ext cx="6477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caused by the aftermath of severe bleeding, heart attack, electricity, or poiso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ck is a severe condition in which the circulatory system fails to deliver blood to all parts of the bod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038480" y="5029200"/>
            <a:ext cx="1193760" cy="1625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to spot signs of shock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son may be restless, have irritability, rapid, shallow, or uneven breathing; pale, cool, and moist skin; and rapid or weak pulse or no pulse at al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81280" y="4876920"/>
            <a:ext cx="1752840" cy="1341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at you do next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 the person with a blanket or coat to maintain the person’s body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help immed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1778040" cy="1208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666880" y="5105520"/>
            <a:ext cx="1930680" cy="947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905120" y="5029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617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1219320"/>
            <a:ext cx="64008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ow you know what to do if somebody’s in shock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2:55:22Z</dcterms:created>
  <dc:creator>Kraybill</dc:creator>
  <dc:description/>
  <dc:language>en-US</dc:language>
  <cp:lastModifiedBy>Kraybill Campus LMS</cp:lastModifiedBy>
  <dcterms:modified xsi:type="dcterms:W3CDTF">2011-05-24T13:05:37Z</dcterms:modified>
  <cp:revision>19</cp:revision>
  <dc:subject/>
  <dc:title>How to help somebody in shock</dc:title>
</cp:coreProperties>
</file>